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249988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2496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2708280" cy="479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539880" y="0"/>
            <a:ext cx="2708280" cy="479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tr-TR" sz="1000" spc="-1" strike="noStrike">
                <a:solidFill>
                  <a:srgbClr val="000000"/>
                </a:solidFill>
                <a:latin typeface="Arial T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0D245D4-CB33-401A-88F1-C2E9F653E3E7}" type="datetime">
              <a:rPr b="0" i="1" lang="tr-TR" sz="1000" spc="-1" strike="noStrike">
                <a:solidFill>
                  <a:srgbClr val="000000"/>
                </a:solidFill>
                <a:latin typeface="Arial Tur"/>
              </a:rPr>
              <a:t>28.07.26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731880" y="728640"/>
            <a:ext cx="4782960" cy="35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Tur"/>
              </a:rPr>
              <a:t>Click to move the slide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833400" y="4559040"/>
            <a:ext cx="4579920" cy="432108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Tu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Tur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1800" y="9121680"/>
            <a:ext cx="2708280" cy="479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539880" y="9121680"/>
            <a:ext cx="2708280" cy="47952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tr-TR" sz="1000" spc="-1" strike="noStrike">
                <a:solidFill>
                  <a:srgbClr val="000000"/>
                </a:solidFill>
                <a:latin typeface="Arial T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47F87C2-5A5C-45F0-9EC5-3E32D0E346DF}" type="slidenum">
              <a:rPr b="0" i="1" lang="tr-TR" sz="1000" spc="-1" strike="noStrike">
                <a:solidFill>
                  <a:srgbClr val="000000"/>
                </a:solidFill>
                <a:latin typeface="Arial Tur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1952640" y="730080"/>
            <a:ext cx="2343240" cy="36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24960" y="4560480"/>
            <a:ext cx="49928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Tur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540240" y="9121680"/>
            <a:ext cx="2708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3A314AD-C3CE-4753-BB69-86A7CF9B11FC}" type="slidenum">
              <a:rPr b="0" i="1" lang="tr-TR" sz="1000" spc="-1" strike="noStrike">
                <a:solidFill>
                  <a:srgbClr val="ffffff"/>
                </a:solidFill>
                <a:latin typeface="Arial Tur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731880" y="728640"/>
            <a:ext cx="4782960" cy="35863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33400" y="4559040"/>
            <a:ext cx="457992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Tu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AFC-83FA-497E-AD2F-F1A9AC75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0484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90B-6947-46CC-853A-DC206603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7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A52-8911-4754-A594-62280A53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328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0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048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328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0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D12-6027-46CB-BA8E-68F28066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8803-A8BD-4605-B3A9-AA7D5798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D061-93CA-46EC-B9BD-253BE1BF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F8C5-5A70-4A5B-B1CC-78923B05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7A46-809F-4DA2-8A80-79886E82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F24F-5B83-46B3-9EB1-480A89E4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048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D3EA-8E71-492B-8647-0D67387E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B988-3EC0-4CCD-88F2-55658A02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ABE-976E-4741-B7A1-DA314FFB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7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2A41-B054-4FF2-870C-3CDDA117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44E8-F810-418C-9F96-ABD2FBDB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0484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81F1-D207-42E1-9A11-D4B9957D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7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08FB-D207-4856-BCFA-3C5DD4A6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328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604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048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328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604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E1AA-68A1-4492-A32F-4486319C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376-04F2-4A83-85DA-2F9E8B90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A34-0820-4EBA-9ACA-90C9233C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AC2E-0EE0-4093-A01B-0F218FB9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048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55F-DB65-4147-92BD-FD004367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E5D-F11A-459B-875D-D2D41D76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7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9FE-86B7-4C77-9152-F755C0E0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4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7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0484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6DC-1C82-4CC0-A27B-7CB0423F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e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Tur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3" marL="154620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4" marL="19609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5" marL="19609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6" marL="19609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 T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0FD7-1F0E-46F1-8A16-5F02C7204634}" type="slidenum">
              <a:rPr b="0" lang="tr-TR" sz="1400" spc="-1" strike="noStrike">
                <a:solidFill>
                  <a:srgbClr val="000000"/>
                </a:solidFill>
                <a:latin typeface="Arial Tur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2"/>
          <p:cNvGraphicFramePr/>
          <p:nvPr/>
        </p:nvGraphicFramePr>
        <p:xfrm>
          <a:off x="131760" y="225360"/>
          <a:ext cx="888840" cy="119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1760" y="225360"/>
                    <a:ext cx="88884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e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 Tur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3" marL="154620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4" marL="1960920" indent="-226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5" marL="19609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lvl="6" marL="19609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Tur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ffffff"/>
                </a:solidFill>
                <a:latin typeface="Arial Tu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6415-0656-43A4-B65E-28D7C3B52794}" type="slidenum">
              <a:rPr b="0" lang="tr-TR" sz="1400" spc="-1" strike="noStrike">
                <a:solidFill>
                  <a:srgbClr val="ffffff"/>
                </a:solidFill>
                <a:latin typeface="Arial Tur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5680" y="2131920"/>
            <a:ext cx="8448480" cy="17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 Tur"/>
                <a:ea typeface="Arial Tur"/>
              </a:rPr>
              <a:t>Pelvic Sectional Anatomy and Imaging Technique</a:t>
            </a:r>
            <a:endParaRPr b="1" lang="en-US" sz="28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68000" y="401472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 Tur"/>
                <a:ea typeface="Arial Tur"/>
              </a:rPr>
              <a:t>Alp Dincer, M.D</a:t>
            </a:r>
            <a:endParaRPr b="0" lang="en-US" sz="1800" spc="-1" strike="noStrike">
              <a:solidFill>
                <a:srgbClr val="ffff00"/>
              </a:solidFill>
              <a:latin typeface="Arial Tur"/>
            </a:endParaRPr>
          </a:p>
          <a:p>
            <a:pPr lvl="1"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6600"/>
                </a:solidFill>
                <a:latin typeface="Arial Tur"/>
              </a:rPr>
              <a:t>Acıbadem University, School of Medicine,</a:t>
            </a:r>
            <a:endParaRPr b="0" lang="en-US" sz="1800" spc="-1" strike="noStrike">
              <a:solidFill>
                <a:srgbClr val="ffff00"/>
              </a:solidFill>
              <a:latin typeface="Arial Tur"/>
            </a:endParaRPr>
          </a:p>
          <a:p>
            <a:pPr lvl="1"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6600"/>
                </a:solidFill>
                <a:latin typeface="Arial Tur"/>
              </a:rPr>
              <a:t>Department of Radiology</a:t>
            </a:r>
            <a:endParaRPr b="0" lang="en-US" sz="1800" spc="-1" strike="noStrike">
              <a:solidFill>
                <a:srgbClr val="ffff00"/>
              </a:solidFill>
              <a:latin typeface="Arial Tur"/>
            </a:endParaRPr>
          </a:p>
          <a:p>
            <a:pPr lvl="1"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6600"/>
                </a:solidFill>
                <a:latin typeface="Arial Tur"/>
              </a:rPr>
              <a:t>Acıbadem Altunizde Hospital, İstanbul</a:t>
            </a:r>
            <a:endParaRPr b="0" lang="en-US" sz="18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 Tur"/>
              </a:rPr>
              <a:t>intro</a:t>
            </a:r>
            <a:endParaRPr b="1" lang="en-US" sz="32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Imaging Technique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Sectional Anatomy</a:t>
            </a:r>
            <a:r>
              <a:rPr b="0" lang="en-US" sz="2400" spc="-1" strike="noStrike">
                <a:solidFill>
                  <a:srgbClr val="ffff00"/>
                </a:solidFill>
                <a:latin typeface="Arial Tur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ff"/>
                </a:solidFill>
                <a:latin typeface="Arial Tur"/>
              </a:rPr>
              <a:t>Aim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To demonstarte pelvic anatomy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To reveal or r/o possible cause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ffff"/>
                </a:solidFill>
                <a:latin typeface="Arial Tur"/>
              </a:rPr>
              <a:t>imaging modalities</a:t>
            </a:r>
            <a:endParaRPr b="1" lang="en-US" sz="32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X-Ray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US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CT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00"/>
                </a:solidFill>
                <a:latin typeface="Arial Tur"/>
              </a:rPr>
              <a:t>DSA</a:t>
            </a:r>
            <a:endParaRPr b="0" lang="en-US" sz="24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00"/>
                </a:solidFill>
                <a:latin typeface="Arial Tur"/>
              </a:rPr>
              <a:t>MRA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ff"/>
                </a:solidFill>
                <a:latin typeface="Arial Tur"/>
              </a:rPr>
              <a:t>MRI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Standardisation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Aim: 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demonstarion of genitourinal soft tissues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pelvic bones and muscles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vascular stuctures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nerves and plexus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ff"/>
                </a:solidFill>
                <a:latin typeface="Arial Tur"/>
              </a:rPr>
              <a:t>MR protocol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Array coil, if needed intravaginal or rectal coil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3T ?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High resolution standard 2D and 3D T1W/T2W w/o fat-sat or Dixon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DWI 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Volumetric PD, STIR and T1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Dynamic volumetric T1 studies (arterial, venous and delayed)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ff"/>
                </a:solidFill>
                <a:latin typeface="Arial Tur"/>
              </a:rPr>
              <a:t>DWI-DTI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High resolution 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At least 6 direction for DTI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048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ffff"/>
                </a:solidFill>
                <a:latin typeface="Arial Tur"/>
              </a:rPr>
              <a:t>3T MR Neurography </a:t>
            </a:r>
            <a:endParaRPr b="1" lang="en-US" sz="4400" spc="-1" strike="noStrike">
              <a:solidFill>
                <a:srgbClr val="00ffff"/>
              </a:solidFill>
              <a:latin typeface="Arial Tur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048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Lumbar Plexus: L1-L5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Sacral Plexus: L4-S4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Lumbosacral Plexus: L2-S4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3D SPACE STIR and/or PD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Muliplanar volüm reconstruction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Arial Tur"/>
              </a:rPr>
              <a:t>MIP reconstruction</a:t>
            </a:r>
            <a:endParaRPr b="0" lang="en-US" sz="3200" spc="-1" strike="noStrike">
              <a:solidFill>
                <a:srgbClr val="ffff00"/>
              </a:solidFill>
              <a:latin typeface="Arial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40:43Z</dcterms:created>
  <dc:creator>MUMİN</dc:creator>
  <dc:description/>
  <dc:language>en-US</dc:language>
  <cp:lastModifiedBy>Alp Dinçer</cp:lastModifiedBy>
  <cp:lastPrinted>1999-05-25T12:26:34Z</cp:lastPrinted>
  <dcterms:modified xsi:type="dcterms:W3CDTF">2018-04-20T10:51:48Z</dcterms:modified>
  <cp:revision>258</cp:revision>
  <dc:subject/>
  <dc:title>Slayt Başlığı Yok</dc:title>
</cp:coreProperties>
</file>