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9306-E474-41E6-A2C9-F1CC0768A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7E1F-130D-450C-B306-F719E377E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160-2ACF-4542-8CA6-22547261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A9CC-8C85-46E4-88BF-0F98AED5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645-FC6C-4F37-803C-DC4DA5C2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4CD-DCB0-459C-837A-282633BE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7DA5-B1C3-4148-8242-C2E03693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C8D-5796-444B-8F4D-97967AF3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21DD-0DF8-40A0-91F3-40C2B31B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7744-D230-4548-B769-6C41A9FB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BB1-EEE2-4A7F-8D15-119ACE70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332C-727C-4A5E-8C02-633DC3DA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4979-FC19-41C8-A5CA-B52663C1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70C9-FE39-4BA4-BC50-4B577529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D596-1B72-4A74-B5EF-4226F85E4C1E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19640" y="2565000"/>
            <a:ext cx="5256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KRONİK PELVİK AĞRIYA “PSİKİYATRİK” YAKLAŞ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2 (1)"/>
          <p:cNvPicPr/>
          <p:nvPr/>
        </p:nvPicPr>
        <p:blipFill>
          <a:blip r:embed="rId1"/>
          <a:srcRect l="2743" t="0" r="5903" b="34494"/>
          <a:stretch/>
        </p:blipFill>
        <p:spPr>
          <a:xfrm>
            <a:off x="0" y="0"/>
            <a:ext cx="914400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995640" y="5516640"/>
            <a:ext cx="4969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İSED: 0.555.274 41 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800000"/>
                </a:solidFill>
                <a:latin typeface="Arial"/>
              </a:rPr>
              <a:t>www.cemkece.com.t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EM KEÇE: 0.533.234 72 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0" descr="pelvik_bozulmasi"/>
          <p:cNvPicPr/>
          <p:nvPr/>
        </p:nvPicPr>
        <p:blipFill>
          <a:blip r:embed="rId2"/>
          <a:srcRect l="16573" t="43182" r="12622" b="0"/>
          <a:stretch/>
        </p:blipFill>
        <p:spPr>
          <a:xfrm>
            <a:off x="0" y="2565360"/>
            <a:ext cx="4500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NEDEN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ronik pelvik ağrının birçok organik nedeni olsa d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irçok kadına kesin tanı konulamamıştı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u nedenle psikolojik ve psikiyatrik değerlendirme çok önemli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ltta yatan fiziksel bir nedenin saptanamadığı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diyopatik kronik pelvik ağrı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, psikiyatrik sınıflamalard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omatoform bozuklukla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başlığı altında ele alın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ronik pelvik ağrılı hastalar içerisinde en büyük grubu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omatoform bozukluk tanısı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konulan hastalar oluşturmaktad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hastalard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işlev bozuklukları, mide-barsak yakınmaları, baş ağrıları, oligomenore, miksiyon bozuklukları ve premenstrüel şikayetle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gibi ek birçok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osomatik semptomlar ve maskeli depresyon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lunabilmekte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NEDEN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staların birçoğund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ososyal etmenle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dikkati çekmekte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Çok etmenli bir zeminde ortaya çıkan kronik pelvik ağrıya neden olan psikolojik ve psikiyatrik durumlar şunlar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İKOLOJİ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İLİNÇDIŞI KEFARET ÖDEME ARZUSU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tanç, suçluluk ve günahkârlık duygularına yol açan travmatik yaşantı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Çocuklukta cinsel ve fiziksel istismar öyküs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istismara ve tecavüze uğ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Çocuklukta ve ergenlik döneminde ensestiyöz ve homoseksüel deneyimler yaşama ve cinsel oyun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ronik somatizasyon ve hist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ldatma ve aldatıl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işlev bozukluklar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yönelim ve cinsel kimlik karmaş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NEDEN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İKİYATRİ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epresyon – maskeli depresy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İlaç çekilme sendromlar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astalık hastalığı (hipokondriyaz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işilik bozukluklar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lkol ve madde kötüye kullanımı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nksiyete bozukluklar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yku bozukluklar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avranış bozukluklar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NEDEN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İNSEL TACİ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ekimlerin kronik pelvik ağrı şikâyeti olan hastalard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tacizi sorgulaması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avsiye edilmekte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ncak çok erken dönemlerde gerçekleşmişse anımsamayacağından hekime bildiremeyeceği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irçok taciz mağdurunun ise hatırlasa bile hekimle bir güven ilişkisi gelişmedikçe bunu anlatmayacağı hatırda tutulmalıdı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durumun hekime iletildiği durumlarda, hekimler bu bilgi ile ne yapacaklarını çoğu zaman bilememekte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noktada ilk önc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acizin devam edip etmediğinin açığa kavuşturulması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gerek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astanın geçmişinde yaşadığı cinsel taciz ile bugünkü ağrı şikâyeti arasında bir bağ kurmak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her zaman mümkün olmayabilir ya da bu uzun bir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terapi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y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oterapi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ürecini gerektirebi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KRONİK PELVİK AĞRI ile ilgili görsel sonuc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cc0000"/>
                </a:solidFill>
                <a:latin typeface="Arial"/>
              </a:rPr>
              <a:t>PSİKOLOJİK VE PSİKİYATRİK DEĞERLENDİRME VE CİNSEL ÖYKÜ AL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sikolojik değerlendirm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jineseksolog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terapist, psikiyatrist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veya hastanın bakımı üstlenen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ile hekim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tarafından yapıla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oğun psikolojik değerlendirme ve tedaviden fayda görecek kadınları tanımlamada aşağıdaki sorular sorularak hastalar saptanabili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Ağrınız çalışma, ilişkiler, uyku, cinsel aktivite gibi fonksiyonlarınızı nasıl etkiliy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Ağrı duygu durumunuzu nasıl etkiliyor? Huzursuzluk veya depresyon, anksiyete veya gerginlik hissediyor musunuz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Hayatınızda ne kadar stres yaşıyorsunuz? Az, orta, yüksek miktarda mı? Eğer yüksek miktarda ise bunun ağrı ile ilişkisi var mı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cc0000"/>
                </a:solidFill>
                <a:latin typeface="Arial"/>
              </a:rPr>
              <a:t>PSİKOLOJİK VE PSİKİYATRİK DEĞERLENDİRME VE CİNSEL ÖYKÜ AL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Hiç cinsel, duygusal veya fiziksel istismara maruz kaldınız mı? Şu an istismara maruz kalıyor musunuz? Sizin ve çocuklarınız güvenliğinden endişe duyuyor musunuz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Ağrı, istismar veya stres ile başa çıkmanızda size kim yardımcı oluy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Ağrı ile başa çıkma yetenekleri, depresyon veya stres yönetimiyle, çift terapisi, cinsel terapi veya çözümlenmemiş istismar ile ilgili danışmanlık almakla ilgilenir misiniz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KRONİK PELVİK AĞRI ile ilgili görsel sonuc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Arial"/>
              </a:rPr>
              <a:t>HASTA – HEKİM İLİŞKİSİNE DAİR ZORLU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ronik pelvik ağrı şikâyeti olan hastalar çoğu zaman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“zor” hastalardı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; zira fiziksel bir şikâyet nedeniyle hekime başvurmuşlar, ancak yapılan kapsamlı tetkik ve incelemelerde ağrıyı açıklayacak belirli bir fiziksel neden bulunamamışt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zorluk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ekim-hasta ilişkisinde çoğu zaman çatışmalara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astanın tedaviyi erken bırakmasına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ekim değiştirmesin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ve bazen d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astanın semptomlarının alevlenmesin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neden ola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ronik yakınmalar hekimleri sinirlendiri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Çünkü, tedaviden iyi sonuç almak hekime uzun ve pahalı bir eğitimin boşa gitmediğini hissettirmekte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Arial"/>
              </a:rPr>
              <a:t>HASTA – HEKİM İLİŞKİSİNE DAİR ZORLU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yomedikal modelle eğitilmiş hekimlerin eğitimi hastanın davranış, duygu ve kişilerarası ilişkilerini tanımayı içermediğinden, hekimler iyileşemeyen ya da iyileşmeyecek hastayı genellikle kolayca anlayamazlar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u hastalara tahammül gösteremez ve bu nedenle tedavilerinde başarısız olurlar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ekimlerin tepkileri hayal kırıklığı, öfke ve hatta öç alma şeklinde olabilir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abii bu durum, sadec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astanın cezayı hak ettiği inancını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pekiştirmeye yar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avaşça gelişmesi beklenen hasta-hekim işbirliği yerine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arşılıklı bir güvensizlik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geliş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er iki taraf için de doyurucu olmayan bir ilişki kurul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Arial"/>
              </a:rPr>
              <a:t>11. ENDOAKADEMİ 201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ndometriozis ve Adenomyozis Derneğ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Yönetim Kurulu Başkanı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Dr. Taner Usta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hocama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r. Ahmet KALE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ahsım v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Sağlık Enstitüsü Derneği (CİSED) Ailes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adına teşekkürlerimi ve şükranlarımı sunarı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Arial"/>
              </a:rPr>
              <a:t>HASTA – HEKİM İLİŞKİSİNE DAİR ZORLU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durumd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ekim başarısız hisseder,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zaman ve enerji harcamıştır, bu enerjinin daha iyi yanıt verecek hastalara harcanabileceğini düşüne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astanın kronikliği hekimle kişisel bir zıtlaşma gibi algılanı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ekimler bu hastalar için hissettikleri öfkeyi bazen adlar takarak ifade ederler (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isterik, uyumsuz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vb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hastaları kabul edebilen ve savunmalarını hekime yönelik şahsi saldırı olarak algılamayan hekimler bu hastaları daha iyi tolere ederl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emptom modifikasyonundan önce güvenli bir ilişki şarttı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öylece daha az hayal kırıklığı, öfke ve stres yaşan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ekimler bu tür hastaları değerlendirirken hastanın şikâyetinin gerçek ve geçerli olduğunu akılda tutmalıdı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, hemen tanı koyup etiketlememeye özen göstermeli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emptom azımsanır, görmezden gelinirse, hastalar hekime güvenemeyecekleri sinyalini alır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Arial"/>
              </a:rPr>
              <a:t>HASTA – HEKİM İLİŞKİSİNE DAİR ZORLU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Gerekirse tetkikler yapılmalı, ancak bir yerden sonra gerekli olmayan tetkikler yapılmamalı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on olarak bu hastalara düzenli randevu verilmesi önem taş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KRONİK PELVİK AĞRI ile ilgili görsel sonuc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Arial"/>
              </a:rPr>
              <a:t>PSİKOLOJİK VE PSİKİYATRİK TEDAV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hastalar için bir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edaviden çok, ilişki önemlidi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zellikle hastay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olojik ve psikiyatrik tedavinin medikal tedavinin yerine değil ona ilave edilmesinin başarıyı arttırdığı ve hayat kalitesini arttıracağı ve acı çekmeyi azaltacağı bilgisi verilmeli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TEDAV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İKOLOJİK TEDAV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ter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danışmanlı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odinamik psikoter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ravma terapi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Yoga ve meditasy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ilinçli farkındalık (mindfulness) temelli bilişsel ter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Nefes ve gevşeme egzersiz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ensendieck somatokognitif ted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TEDAV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ENSENDİECK SOMATOKOGNİTİF TEDAVİ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ronik pelvik ağrı hastalarında psikolojik tedaviler içind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fizyoterapi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l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oterap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arasında bir yöntem olarak tarif edilebilecek olan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ensendieck somatokognitif tedav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yaklaşımı ile ağrıyı gidermeye çalışan araştırmacılar olumlu sonuçlar almışt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yöntemde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astalara beden duruşu, nefes alıp, verme ve ağrıyı azaltmak için hareket etme biçimlerinin öğretilmesinin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anı sıra,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hastaların bedenleriyle ilgili farkındalıklarının artmasına yönelik bilişsel yaklaşım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kullanılmışt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TEDAV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İKİYATRİK TEDAV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ntidepresan ilaç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nksiyolitik ilaç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üşük doz antipsikotik ilaçla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(adjuvan bir analjezik olar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TEDAV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NTİDEPRESAN İLAÇ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astırılmış ve ifade edilmemiş derin öfkenin bilinçdışı olarak bedene yöneldiği bir hastalık ola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epresyonu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tedavisinde çeşitli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ntidepresan ilaçla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değişik dozlarda kullana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6–8 haftada terapötik etki görülmemişse farmakolojik ajanın değiştirilmesini gerek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edaviye cevap vermeyen hastaların %50’si aynı gruptan başka bir ilaca cevap vermekte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ronik pelvik ağrının tedavisind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mitriptilin, sertralin, duloksetin, nortriptilin ve sitalopram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literatürde bahsi geçen antidepresanlar arasında yer almaktad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TEDAV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ronik ağrılı sendromların tedavisinde son yıllarda üzerinde durulan bir ajan, seçici serotonin-noradrenalin geri alım inhibitörü olan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ulokseti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dir.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DULOXX® 30 mg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28 ve 56 kapsül, dozu günde iki kapsüldü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ntidespresanların uyku hali, sersemlik, ağız kuruluğu ve kabızlık, yorgunluk, diyare, baş ağrısı v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libido kaybı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gibi yan etkileri ol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insel işlev bozukluğu ortaya çıktığında bazı ilaçlar doğrudan tedaviye eklenerek alınan cevaba göre dozu ve kullanım süresi ayarlanmak suretiyle antidot olarak kullanılırl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upropi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(VELBUTRİ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uspi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(BUSP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İPROHEPTADİ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DİĞ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MANTADİN, METİLFENİDAT, Dekstroamfetamin, Yohimbin, Sildenafil, Neostigmin, Betanekol gib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TEDAV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UPROPİ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ibidoyu ve uyarılmayı arttırır ve orgazmı kolaylaştır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WELLBUTRIN XL 150 mg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Yavaş Salımlı Film Kaplı Tablet 1*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USPİR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ibidoyu arttırır ve orgazmı kolaylaştır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İPROHEPTADİN (SİPRAKTİN ŞUR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rgazmı kolaylaştır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MANTADİ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rgazmı kolaylaştır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ntiviral ve antiparkinson etkisi var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ETİLFENİDAT (RİTALİ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insel uyarılmayı arttırır ve orgazmı kolaylaştır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masters-johnson-promo-51955756"/>
          <p:cNvPicPr/>
          <p:nvPr/>
        </p:nvPicPr>
        <p:blipFill>
          <a:blip r:embed="rId1"/>
          <a:srcRect l="5903" t="0" r="668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TEDAV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LADY PREL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dınlarda cinsel isteği arttıran bitkisel gıda takviyesi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çinde L-Arjinin HCL, L-sitrulin, Rosvita, Pycnogenol (Fransız sahil çamı kabuk extresi) var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ntidepresanların cinsel yan etkilerini azalt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GİNKGO BİL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tkisel gıda takviyesi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ntidepresa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özelliği vardır, depresyona iyi gelir, ruh halini iyileştirerek panik atak ve depresyonu azaltmaya yardım eder, bu sayede antidepresan kullanımı azaltıla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ntidepresanların cinsel yan etkilerini azalt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ynı zamanda cinsel isteksizlik sorununun çözümüne destek ol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elleği güçlendirme ve bellek kaybını bir ölçüde hafifletebilme özelliği var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b60679d9-87e1-418e-b92b-7c6531f542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jineseksoloji-kongre-2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t-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ct-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af06fb9f-cec7-4e3b-98fb-064c618f37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JİNESEKSOLOJİ - www.jinesek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ADINLARIN SEKS BİLİMİ”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olarak tanımladığımız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jineseksoloji,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dın ve erkek cinsel fonksiyonlarının benzerlikleri ve birbirlerini tamamlayan özellikler taşımaları nedeniy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şkın seks cinsel tedavi yaklaşımı”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nı 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ultidisipliner bir bakış açısı”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nı esas alar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adın olmadan erkek, erkek olmadan kadın cinselliği olmaz”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prensibini kullan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JİNESEKSOLOJİ - www.jinesek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Gerçekte jinekoloji ve jineseksoloji aynı anatomofizyolojik alanda işlev görmektedirler am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jineseksoloj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terap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danışmanlı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vlilik ve ilişki terapis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oloji 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iyatriy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daha yakın bir konumda da olacakt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n önemli cinsel terapi kuramcıları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Virginia Johns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v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William Masters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’t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lindiği gibi William Masters bir jinekologd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JİNESEKSOLOJİ - www.jinesek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Gerçekte jinekoloji ve jineseksoloji aynı anatomofizyolojik alanda işlev görmektedirler am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jineseksoloj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terap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danışmanlı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vlilik ve ilişki terapis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oloji 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iyatriy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daha yakın bir konumda da olacakt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n önemli cinsel terapi kuramcıları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Virginia Johns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v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William Masters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’t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lindiği gibi William Masters bir jinekologd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pelvik_bozulmas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cc0000"/>
                </a:solidFill>
                <a:latin typeface="Arial"/>
              </a:rPr>
              <a:t>KRONİK PELVİK AĞRIYA PSİKİYATRİK YAKLAŞ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Duygular”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 ve 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“bedensel semptomlar”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 arasındaki ilişki 1950’lerden bu yana bildirilmektedi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Günümüzde 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Kronik Pelvik Ağrı (KPA)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ibi psikosomatik fenomenlerin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 çocukluk ve yetişkinlik dönemine ait travmatik anıların bir tür tekrarı olduğu düşünülmektedi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Arkaik travmatik algısal izlerin farklı kısa devrelerle, (1) beden üzerinden, (2) eylemlerle ve (3) psikotik olmayan kişide zihinde halusinatuar yaşantılarla tekrarladığı üzerinde durulmaktadı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Tıbbi nedenlere bağlanamayan beden yakınmaları (somatizasyon veya bedenselleştirme) bir duygu ya da yaşantının beden üzerinden ifadesi olarak ele alınır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Bu nedenle kadınların günlük hayatlarını ve genel anlamda kendilerini sağlıklı ve iyi hissetmelerini olumsuz yönde etkileyen kronik pelvik ağrı, “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BİYO-PSİKO-SOSYAL MODEL”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 çerçevesinde anlaşılabili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Çünkü 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“ağrı gelişimi”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 ile 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psikolojik ve psikiyatrik bulgular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ın neden birlikte olduğu tam olarak anlaşılamamıştır ancak bunun üzerine yapılabilecek en mantıklı açıklama ikisinin de ortak nörotransmitterlere ve ortak yollara sahip olmasıdır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cc0000"/>
                </a:solidFill>
                <a:latin typeface="Arial"/>
              </a:rPr>
              <a:t>KRONİK PELVİK AĞRIYA PSİKİYATRİK YAKLAŞ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ikisinin birlikteliği ile ilgili bir diğer kanıtta psikiyatrik amaçlı kullanılan ilaçların kronik pelvik ağrı tedavisinde işe yaramasıd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ronik pelvik ağrının etiyolojisinin hala tam anlaşılamaması,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ayrıntılı cinsel öykü almanın, psikolojik ve psikiyatrik değerlendirmenin ihmal edilmes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ve katkıda bulunan birçok muhtemel etken olması nedeniyle tedavi çoğunlukla tatmin edici değildir ve kısmi rahatlamayla sınırlı kal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ndan dolayı kronik pelvik ağrı şikâyeti olan kadınların başarılı bir tedavi için çok yönlü bir yaklaşıma ihtiyacı vard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emptomatik rahatlama için tanı ve tedavid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ultidisipliner bir yaklaşım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n en etkilisi olduğu görülmekte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Özellikle uzamış ve karmaşık vakaların jineseksolojik olarak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ani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jinekolojik, ürolojik, psikiyatrik ve cinsel terapi açısından değerlendirilerek multidisiplinler bir yaklaşım içerisinde ele alınması gerekmektedir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KRONİK PELVİK AĞRI ile ilgili görsel sonuc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20:09:59Z</dcterms:created>
  <dc:creator>AMitchel</dc:creator>
  <dc:description/>
  <dc:language>en-US</dc:language>
  <cp:lastModifiedBy>L.K konferans</cp:lastModifiedBy>
  <cp:lastPrinted>2006-03-28T21:02:55Z</cp:lastPrinted>
  <dcterms:modified xsi:type="dcterms:W3CDTF">2019-10-20T06:48:01Z</dcterms:modified>
  <cp:revision>188</cp:revision>
  <dc:subject/>
  <dc:title>PowerPoint Presentation</dc:title>
</cp:coreProperties>
</file>